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27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</p:sldMasterIdLst>
  <p:sldIdLst>
    <p:sldId id="256" r:id="rId24"/>
    <p:sldId id="257" r:id="rId25"/>
    <p:sldId id="258" r:id="rId26"/>
    <p:sldId id="25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" Target="slides/slide1.xml"/><Relationship Id="rId25" Type="http://schemas.openxmlformats.org/officeDocument/2006/relationships/slide" Target="slides/slide2.xml"/><Relationship Id="rId26" Type="http://schemas.openxmlformats.org/officeDocument/2006/relationships/slide" Target="slides/slide3.xml"/><Relationship Id="rId27" Type="http://schemas.openxmlformats.org/officeDocument/2006/relationships/slide" Target="slides/slide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EC70-3E2F-4EA4-A14A-D453DD3B1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3963-32D2-4139-825E-5F568D300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10E747-0FFC-4B61-B4F7-8CC278460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669E9A-D2E2-4C87-A452-1C29E906B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B97201-D376-4327-A6F6-07A815D9E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A05A9E-4085-4BF7-AE17-F10A7B12F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FFDAD7-222A-4C21-B5D6-89E0BF340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A34AC3-B11C-4017-AE16-C042435BA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7549A4-3C6C-44D4-803E-85D88DBD7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09C45E-FD8E-4C6D-887A-9156EBC59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A60CAA-BFF2-47B8-A73C-2F4DBBF4A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55F9FE-1EF3-48C3-94F0-39CE421CE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410F-D716-4C79-A18E-220B1A84F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13B91C-E947-49F9-B450-3A2370987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118099-5CE6-4A4C-8A1F-BF4EE08BC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7797A3-D0A3-4474-8D68-ECAD50039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5F214C-46B9-4E69-9610-A3FD34F9C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CA855E-4CF1-4013-8685-1DA9658B6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92A4D7-A8F6-4712-ABB6-1D61B1659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47C3D7-8E84-43FA-8F95-2FCABB1EE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2C834C-158D-4B73-9925-B746DD3D7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23163B-E87D-416D-9A31-A41972B8B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22BF9E-B084-4B11-83C2-138764F75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4755-D2E0-407E-9167-75481593C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B2151B-D747-46C2-8618-25A1C2D76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A57325-7E5A-48C2-9069-931FFBAB6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368E06-9D28-4CE0-8347-330432896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1F9B32-EAAA-40F3-ABCC-377960A34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4CC6C9-9E53-45BF-A53C-064871B44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59E31C-0EEB-46BA-A883-D2D78F752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1BE8C8-FBCB-4477-B784-228689F77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0E2BEF-2BD6-4FFB-A66C-7EFAE0BBB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E38192-B935-459B-83F1-06F12AE12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B00E53-04C9-449F-992B-CC8B7286E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C2768-6B4D-464C-8AF5-0F363331D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18EE95-9992-4970-BA03-2BF7A3A87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EB2EC2-CF67-4F58-8D9A-6D2F2F390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E3346E-E79F-4D4E-B970-5C0F57538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8C367E-7B8B-459F-A359-93A8370CE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201E3B-E93F-469C-AED3-34ED219C3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5223BB-BC85-4E19-B591-CDE4CF700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7C1E53-111D-4A5C-A506-5F23963B3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BBD8A2-57A8-45FF-B7B0-20896873C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6305B6-832B-4781-A661-1A56DDF1E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78BE48-1BBE-40E4-8CC6-4DF447FE9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625E9-4A28-4406-9914-C76A6B80D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845A8A-50F1-4B73-8E09-A5681954A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233F24-9ACB-40E5-8BD5-D4EB724C0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19316E-478E-475C-A8E5-B1E930ADF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C6BE55-687B-4CC5-8EA0-640A366EF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D1F20D-5B12-459F-80B7-04EB76407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D5470D-2C8C-46D2-BD97-12D4F76E0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7A5409-014C-4934-93CA-57A770C8C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551998-09DA-4918-8835-CA95A753D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B54698-DF56-40CE-A461-4EAB779A5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7B8355-0217-4E9E-A2C1-4B84D458C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5E921-9EFE-46E6-BA41-7295D2E70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665533-EBFF-4B1D-8A42-7A312940D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B95F1F-458F-4F74-AA72-A26BF28E6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BDA3F0-9304-4BFF-873C-191986F82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16648F-C47C-4A5F-B4DB-86F9EB8CF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4C038C-A3C2-4205-9209-690EDE22B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2A94A2-B833-45E1-9AF7-D69806D36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F7170D-32C4-495E-AB50-EF00C17FF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7F4440-3728-4A5E-B54B-F8CA5D6C6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842BF1-7226-4AE0-8F5E-15D7009FD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7DAD91-B2E2-4CE4-B053-AE82BA683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5FE40-D853-4EF8-A4BF-C8056CCE4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BC816A-8C7F-4E9B-9019-937859DBE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1A5FC2-8CAA-467C-AC2E-E91734117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0DD614D-083D-4E83-A1D4-B25117529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0FA0915-86C6-4C83-900D-275C961FF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0517663-14EF-4BED-A352-DE7FB1C88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6D51FA-49AB-4CF9-936D-AD50AB837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8918D82-513A-4A8E-B116-ED06AD2A4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00A031-98BA-48D7-BA6D-F441F9A05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1EAA7AD-136D-4BA6-9843-53532AD5B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C8F9B5C-CAF6-44BA-9FD2-ABCE307A7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38BDC-7295-4474-BEF0-677AE9C8F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971F56A-7ADB-4F47-A8D8-5F34D1062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BBC821A-596C-42B2-B088-58400D954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3F57040-C95F-4B15-B1F9-EEA20DF26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77DC130-2F10-4690-8FD4-D1BF66650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CF8E9A5-060D-48AB-8C45-5579CD9ED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271360D-A07F-4B7D-92CE-907471118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4B9BDC3-1A08-4C42-9067-142082D21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509041F-C25E-448E-A8E1-54FED2B8C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8C36DB4-78CC-4DAF-B02E-BB1147845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9D79F4A-D166-4863-8B65-0153CCFA3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48810-1F7E-4A26-BA37-853223127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99A46A1-B05B-4306-9754-638BC8821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0763E65-5E50-4C36-A405-C23CCC496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062F7AD-7342-4A79-8407-1BA2591FA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8B5A4F5-473D-4542-B82C-9D001E529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9E18838-6890-44BF-B9CB-6679643D2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580188C-4973-4984-AD40-099494143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741BC6C-C4C0-4F64-8DF1-2DD6617A9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999316D-33A9-4F22-AEA7-3D3B39804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FF12B23-5AFC-4B14-81B6-C23010DF3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CCCB37F-BC4B-4972-BD5F-AAA73DDDC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3852D-810C-45B7-9570-459185936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847731C-84A3-425D-A62A-F1C552640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CD3B45E-2F5F-4E9D-BD90-9990A057F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4E5D154-8CBA-4A3A-8CD6-EECDE2D9A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142C398-BED3-4DF3-88C1-C31B74CCD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AFB9995-E73C-4EC2-8895-6D52E9059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DDA8046-1D8C-44FE-B403-E38CE4ED6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78936B7-D058-4E0D-B62A-5B9C7EF08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1CD06E8-2458-472F-B893-2226B5153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44D320D-FE07-41FE-B03E-3E1AC0204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9BA9459-B1E3-4E2E-BAC9-FB47CF8AE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18E5-1D4B-46C9-AEAF-CDB75D180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A970C-B2D1-41F6-95B1-E79019B16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8437E92-D51C-4385-A784-732B83275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EF38C68-7DD9-4D92-957C-375A61162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4CB269D-CF17-4A84-8402-C78AE4A89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1BE69C4-7582-45CB-91D6-0ACD613B7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4C41EA1-61DC-4D88-BB1D-BF71395E8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B9DAA22-C277-4FE5-BA56-561F18CC4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5623D3E-366B-4E78-8941-0EA067D9C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5244A81-2754-4F96-A792-0521983B5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FAE56CE-573C-435E-8B6E-C28D92AB2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92E4FFB-B1DF-4C07-8446-A0824D65C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3F7CD-8803-463C-A3EC-624908670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1451D01-40E3-4286-92BC-69D6895C5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C00BA06-796D-4021-8D3B-7102F40B7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A8AC574-A0A0-44A6-9630-C457C4E0B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462C222-F91A-40B9-BC8A-2C5A927A1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013CB6C-A1FB-4C09-9975-0B2F67F5C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818C334-1E26-4482-9EE5-BFB39E14D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DC9E464-120E-4BB3-AEB0-7E0B83A67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9F3DAEA-115F-472E-8C5F-D0CAE29BA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6DBDB0F-4041-4C4A-9E7E-B60C78A15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4363F1B-2B78-4341-BEC4-E8A9122C0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6F72C-5DE5-4A83-A9C4-EB66CEE23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8BE4F4D-F8CA-4C3F-9417-2C914648B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C9383D1-B18F-4E5A-8825-1C2C03BA2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993A00D-6534-4E9A-BB18-A2254D7F1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AE56DAF-D641-4ED2-81A3-A7ADE5AF8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B829CFF-96C0-4242-9DA4-C6D479063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5E6F162-3960-4174-823B-7C7F4F7DB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8F990BC-C3CC-4739-8D22-C129CFDAC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88149AE-B2DE-4108-B1D5-1F957633C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8C7DE40-BE7B-42F9-A4A3-1F4CDEF30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A3271E9-7511-4F0D-9B7B-B66995306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179B8-C8B7-4434-974F-E00640D80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B8EADE4-BB9E-4B69-9425-5ACDF6556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F5FD92F-157D-4290-AE0E-46F6A8166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199E5E8-A08E-4B3F-A12E-36653A32E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A275D76-6D49-4A6B-9CE2-15BA2E513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BB98F1D-C1CF-4E23-A694-A5B035042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D24F4DB-C924-4F9F-94AE-80225A9F6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62922B2-DBAF-493D-8820-C968037AF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6D77B14-A0F4-4425-92AB-E99BCD9B6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A15D62D-C966-415B-BF12-D5E6D0C36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8CA0CDD-15A5-43F6-B42A-9B47ADA43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00D20-7D88-4A6A-AA65-980E46760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F080E67-6277-4329-8234-A4D1F9894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1244454-7122-46BC-B2BC-A887555AD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A6DE031-2DD8-4CA7-A5AC-3C787C2F2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3EA79C3-C917-45B9-B621-E294FF413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A5F25FF-8E45-4423-8873-667957365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C7B1E23-64C7-464A-9728-076A6CC1C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4CD5EBD-44DD-4ABF-9D45-1A47157BB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B47C125-F59E-46B3-97DC-E13C70FC6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B860685-E4E2-460C-B939-AFBD0A307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909FDB5-9220-4FF3-B93E-57368797C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56DAF1-A7F7-40CF-A61C-2772EB108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686FCD5-1398-40DA-8F78-8E4FE10E6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B8A3192-EBF1-49CE-A520-E708A6377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4E3A8B5-3BC0-41F9-A72C-0336DCE93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B4B3FA2-7A5C-4E25-B4E3-DC96C8269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FFCBE9C-4414-4588-9E51-A51B2A59B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785D555-1BDA-4D02-9DBB-3CE668016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AB5E69F-060A-4832-BDDF-645AB4690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4F49BBB-0940-45F4-8524-474640DF5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6C6E99E-0879-459A-B1E3-A897B2D68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66A6BBA-027F-4E14-88BA-265A97477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C1E4F9-9066-49FA-A90B-265209B7D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CABF93D-BB31-4653-9AFF-659B8B558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09CDC92-59EC-462B-BA79-57D3E5009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26F822D-24B6-4FE2-BB6D-BBDA679B2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42862FD-02BF-4062-B9CA-D3851D937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38FAC55-83E2-4778-B19C-A2C0CEF44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B8AB88-8864-49F0-990B-4BCAE592A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4FCC29-4E56-484E-92A7-FE4F4B39F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B21561-5EC5-4B36-8EE8-853813B3D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028E-262F-477B-A761-9DBF3F74B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FBA39D-37EC-4062-BF4A-7E9D1996B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67593E-6FCB-4634-84B5-9078C1EBB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648DC2-7B43-463F-A948-C9465A5CF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80E811-B3D9-4FFF-9F29-FDBF0B94D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007E0A-DC14-4445-820B-CA012B4EB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8190C8-523F-4F6C-A505-544D19955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FC8C14-B8DF-449D-9811-61FA9215D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AB766E-45CF-4BF2-835B-FF88FBE57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ABEAFF-2277-414C-846E-CA878F48E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D23315-CECF-4909-B0FA-4E926A460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A86A-9146-44A9-80FF-0EC936DDA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188BA0-2457-4D17-80B5-C96C3C089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B6A994-0F20-4E99-B985-F32645F65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D85857-C414-4796-8D35-DF0C29353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712EC6-C25F-492C-8147-02C788627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64567C-E547-4C39-B363-19B9403E8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CEDA84-D3F1-4A87-BDAD-9C31BB5A6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5BD241-B2B2-4FDF-A7A2-6F86D699A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B2776B-D723-4B87-A8EB-D846FDC38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9BA08D-9D0A-4332-8777-6B2FB4DA5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8021D4-12D8-4AD3-9504-E96CEE6F7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5135-F11B-444B-9AEC-DDC12E27F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D59CFB-3A49-4096-A34D-BBE3C8AF4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8DD29C-78E3-4BFE-8F9E-1BC2DD06B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14E30B-C514-4984-A541-AD091BB85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A13951-AC52-402A-8683-AEE5A9D90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0C4CF5-DA15-410B-8194-7BDAEF116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6AC48C-5812-474D-BC7C-AFA5CF0E6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708A10-D270-4344-9EE3-E37C5C64D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B5AC35-469C-439F-8DA8-A3CDCEC3D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A12E02-4EBD-4E00-B349-731A9FF02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170A0D-1750-4E36-97F6-7927D9D4E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4A9D-4858-4A53-9988-E88860081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4CD274-8F98-42D0-8F7C-7BFAE6311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E1A4D0-8C12-49A0-9291-529A35052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7ACAEA-4E37-4E88-8F6A-A84D2FBA6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F0805D-ABDC-4856-B874-617A1A0EB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37DAF4-0299-47D1-A1EB-92F272F2D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4D9F61-30A6-4821-BB9B-4A164077C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B4A395-9A05-43C5-B6F8-7297C777C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C9F360-D8FF-460D-8A87-C39AEB047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C1A863-A20B-4E32-A292-30A558C5F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7EB4EA-ABB9-4D37-A4D5-248252189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DEED-1CC3-47CF-836C-CCDF0076F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84CD3A-B578-4D53-B403-2BCF0DAAB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03F8D0-CD3F-4771-8529-DC6E5CBF6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3209AF-2CB1-4648-92B4-BF6A85F39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A3FE08-0053-427C-ABE7-00BE07EBD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76BBFA-DE92-4CFD-AFFE-87BC63868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D206A3-3BCF-471C-A93C-0E0F76716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2A23F5-196F-442A-BBD8-6D82B4D11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DAED6A-9CB5-48D2-8EF1-820101BB6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AEBFDD-9BD1-453C-AA01-EC5F0EE62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ADC2F0-811D-4DBB-9A21-698A01A40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0C8E-6D18-42AD-B850-A552FC536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1E8A6B-2F99-479A-BAED-423D20BA0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2E3D24-0558-456F-BFB3-E628869CA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B59B92-7D70-4B66-8E2D-69A975676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DBB65F-61FB-4B9F-A7FD-13295EFCF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158BB6-CE93-4FDA-A1B3-5415A9091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01F781-7943-4D6F-B4EA-3F0DE367F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87DFC8-196C-4E86-8E3D-64826A848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16CD5E-AA19-4C0E-8D3A-370A4E15D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F1E0FE-7A48-43D6-8F50-38C8CC1E9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B6FAAC-A2D1-4534-812A-3223FF8C4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098E-90DD-4CD8-AFEA-318B0C1E7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113D22-4A01-4B8A-8451-03D69F4E7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A93297-F02C-40D9-ABD9-DA6FCF762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16AA23-19F0-4E37-AED0-9975AB671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BE892D-F1FC-4FEE-BCC8-1469D4538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9B303B-AF89-4DEB-82FA-CC6B8531D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8D0552-2E02-447B-BE5D-C7F2AF00C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B768AB-734C-4428-A48B-041FF9CFD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51DF56-06F8-48FE-8A09-854D59FC7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D065C6-6893-424A-954C-E2A8BF1C8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48B1ED-A4E7-47E3-A13D-0C03C796E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2CBC6-8930-45AC-A7E3-1E2C127F328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89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CD996-8435-4D9A-BC63-5C692607167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E3FB1-31AD-4F30-AA95-8A13FC54CEC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B3227-DE63-4916-AEA6-EB795374230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9ED24-0897-418A-BE50-533D2808AB1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548A4-4BB6-4F70-9407-8ECCF861A51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C914E-81A5-47B5-959B-A2BEA2F38C0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19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B7E5A-CADC-4067-AFC2-D40623760EA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C3A6B-FA34-420A-8E4C-11CD00DADE8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2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63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3E66E-7C26-4604-A7E5-C7207A24A07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80E99-A34E-4A16-B4C8-CFE20329014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6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607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5810C-762D-4B96-AF8E-FBF3BE88665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02ACB-DD40-436F-8354-D5500EB1605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0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1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22B12-92FE-445D-8659-EFAEF8C72A3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01220-A566-4E46-A611-29C5975CC8B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5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96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3967A-77E7-4E2B-B7C3-46B719CEEC9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14480-72BA-4DCD-B828-62C9D1C629D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0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24DC0-C00E-4498-ADFA-E7DC05CBA13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96266-6967-4150-A2FC-A1AD8C0E03E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4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2946D-5F17-4E61-876F-FC99E22FF90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6124B-FAA2-4814-A549-5566A086C64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733EB-BB69-4E99-A605-0DE9429EED8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9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2381B-59A4-46EA-9FC7-5013E26EB93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AE7DA-9C76-4A3D-9A2C-3FC04040D03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4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75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C59B6-AE40-4717-9DA3-282B429D07C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F3F19-DC22-40C6-9C4F-3224D5CECF0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9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920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E157D-9456-4B1D-944B-0BD06B8F364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6F036-FBC2-4328-AEAE-E9273F17A25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9774E-48F1-4367-BFEE-6ECACAEC62B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5F14C-6045-49DF-9220-DC8AF774515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62DD7-A35F-42FF-9239-E26D86A9A2E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69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CC889-04D6-4E92-8523-C7F7239D586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1D9C0-A137-4D39-A5D4-A9B38E11233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13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D34C4-57F8-4663-BA45-8214A91643A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70127-5F58-4970-8DCA-98C656D71D1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57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DD887-106E-40E0-8359-4CF19630D1E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CA580-677F-4727-9C66-60BE274F76A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1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14EBE-74FD-4ED1-860A-3BD79539EA5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C8481-BAB6-483F-9D2E-FCD776A1B25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45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1A610-D017-425E-B064-15AD6BE3296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5100D-23CE-49B2-A67A-9FBED21482E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image" Target="../media/image11.png"/><Relationship Id="rId14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2" name="图片 5121" descr=""/>
          <p:cNvPicPr/>
          <p:nvPr/>
        </p:nvPicPr>
        <p:blipFill>
          <a:blip r:embed="rId1"/>
          <a:stretch/>
        </p:blipFill>
        <p:spPr>
          <a:xfrm>
            <a:off x="1824120" y="3114720"/>
            <a:ext cx="5495760" cy="6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3" name="图片 6145" descr=""/>
          <p:cNvPicPr/>
          <p:nvPr/>
        </p:nvPicPr>
        <p:blipFill>
          <a:blip r:embed="rId1"/>
          <a:stretch/>
        </p:blipFill>
        <p:spPr>
          <a:xfrm>
            <a:off x="262080" y="1028880"/>
            <a:ext cx="8619840" cy="4800600"/>
          </a:xfrm>
          <a:prstGeom prst="rect">
            <a:avLst/>
          </a:prstGeom>
          <a:ln w="0">
            <a:noFill/>
          </a:ln>
        </p:spPr>
      </p:pic>
      <p:pic>
        <p:nvPicPr>
          <p:cNvPr id="964" name="图片 6146" descr=""/>
          <p:cNvPicPr/>
          <p:nvPr/>
        </p:nvPicPr>
        <p:blipFill>
          <a:blip r:embed="rId2"/>
          <a:stretch/>
        </p:blipFill>
        <p:spPr>
          <a:xfrm>
            <a:off x="2470320" y="2620800"/>
            <a:ext cx="371160" cy="628920"/>
          </a:xfrm>
          <a:prstGeom prst="rect">
            <a:avLst/>
          </a:prstGeom>
          <a:ln w="0">
            <a:noFill/>
          </a:ln>
        </p:spPr>
      </p:pic>
      <p:pic>
        <p:nvPicPr>
          <p:cNvPr id="965" name="图片 6147" descr=""/>
          <p:cNvPicPr/>
          <p:nvPr/>
        </p:nvPicPr>
        <p:blipFill>
          <a:blip r:embed="rId3"/>
          <a:stretch/>
        </p:blipFill>
        <p:spPr>
          <a:xfrm>
            <a:off x="5478480" y="2620800"/>
            <a:ext cx="371520" cy="628920"/>
          </a:xfrm>
          <a:prstGeom prst="rect">
            <a:avLst/>
          </a:prstGeom>
          <a:ln w="0">
            <a:noFill/>
          </a:ln>
        </p:spPr>
      </p:pic>
      <p:pic>
        <p:nvPicPr>
          <p:cNvPr id="966" name="图片 6148" descr=""/>
          <p:cNvPicPr/>
          <p:nvPr/>
        </p:nvPicPr>
        <p:blipFill>
          <a:blip r:embed="rId4"/>
          <a:stretch/>
        </p:blipFill>
        <p:spPr>
          <a:xfrm>
            <a:off x="8459640" y="2622600"/>
            <a:ext cx="371520" cy="62856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1" descr=""/>
          <p:cNvPicPr/>
          <p:nvPr/>
        </p:nvPicPr>
        <p:blipFill>
          <a:blip r:embed="rId5"/>
          <a:stretch/>
        </p:blipFill>
        <p:spPr>
          <a:xfrm>
            <a:off x="3635280" y="485460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1" descr=""/>
          <p:cNvPicPr/>
          <p:nvPr/>
        </p:nvPicPr>
        <p:blipFill>
          <a:blip r:embed="rId6"/>
          <a:stretch/>
        </p:blipFill>
        <p:spPr>
          <a:xfrm>
            <a:off x="3635280" y="5359320"/>
            <a:ext cx="358920" cy="319320"/>
          </a:xfrm>
          <a:prstGeom prst="rect">
            <a:avLst/>
          </a:prstGeom>
          <a:ln w="0">
            <a:noFill/>
          </a:ln>
        </p:spPr>
      </p:pic>
      <p:pic>
        <p:nvPicPr>
          <p:cNvPr id="969" name="图片 6151" descr=""/>
          <p:cNvPicPr/>
          <p:nvPr/>
        </p:nvPicPr>
        <p:blipFill>
          <a:blip r:embed="rId7"/>
          <a:stretch/>
        </p:blipFill>
        <p:spPr>
          <a:xfrm>
            <a:off x="5176800" y="5027760"/>
            <a:ext cx="1247760" cy="466560"/>
          </a:xfrm>
          <a:prstGeom prst="rect">
            <a:avLst/>
          </a:prstGeom>
          <a:ln w="0">
            <a:noFill/>
          </a:ln>
        </p:spPr>
      </p:pic>
      <p:pic>
        <p:nvPicPr>
          <p:cNvPr id="970" name="图片 6152" descr=""/>
          <p:cNvPicPr/>
          <p:nvPr/>
        </p:nvPicPr>
        <p:blipFill>
          <a:blip r:embed="rId8"/>
          <a:stretch/>
        </p:blipFill>
        <p:spPr>
          <a:xfrm>
            <a:off x="6659640" y="5027760"/>
            <a:ext cx="1247760" cy="4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6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1" name="图片 7169" descr=""/>
          <p:cNvPicPr/>
          <p:nvPr/>
        </p:nvPicPr>
        <p:blipFill>
          <a:blip r:embed="rId1"/>
          <a:stretch/>
        </p:blipFill>
        <p:spPr>
          <a:xfrm>
            <a:off x="785880" y="1638360"/>
            <a:ext cx="7572240" cy="3581280"/>
          </a:xfrm>
          <a:prstGeom prst="rect">
            <a:avLst/>
          </a:prstGeom>
          <a:ln w="0">
            <a:noFill/>
          </a:ln>
        </p:spPr>
      </p:pic>
      <p:pic>
        <p:nvPicPr>
          <p:cNvPr id="972" name="Picture 1" descr=""/>
          <p:cNvPicPr/>
          <p:nvPr/>
        </p:nvPicPr>
        <p:blipFill>
          <a:blip r:embed="rId2"/>
          <a:stretch/>
        </p:blipFill>
        <p:spPr>
          <a:xfrm>
            <a:off x="2743200" y="2664000"/>
            <a:ext cx="216000" cy="191880"/>
          </a:xfrm>
          <a:prstGeom prst="rect">
            <a:avLst/>
          </a:prstGeom>
          <a:ln w="0">
            <a:noFill/>
          </a:ln>
        </p:spPr>
      </p:pic>
      <p:pic>
        <p:nvPicPr>
          <p:cNvPr id="973" name="Picture 1" descr=""/>
          <p:cNvPicPr/>
          <p:nvPr/>
        </p:nvPicPr>
        <p:blipFill>
          <a:blip r:embed="rId3"/>
          <a:stretch/>
        </p:blipFill>
        <p:spPr>
          <a:xfrm>
            <a:off x="3708360" y="2679840"/>
            <a:ext cx="216000" cy="191880"/>
          </a:xfrm>
          <a:prstGeom prst="rect">
            <a:avLst/>
          </a:prstGeom>
          <a:ln w="0">
            <a:noFill/>
          </a:ln>
        </p:spPr>
      </p:pic>
      <p:pic>
        <p:nvPicPr>
          <p:cNvPr id="974" name="Picture 1" descr=""/>
          <p:cNvPicPr/>
          <p:nvPr/>
        </p:nvPicPr>
        <p:blipFill>
          <a:blip r:embed="rId4"/>
          <a:stretch/>
        </p:blipFill>
        <p:spPr>
          <a:xfrm>
            <a:off x="5378400" y="2679840"/>
            <a:ext cx="216000" cy="191880"/>
          </a:xfrm>
          <a:prstGeom prst="rect">
            <a:avLst/>
          </a:prstGeom>
          <a:ln w="0">
            <a:noFill/>
          </a:ln>
        </p:spPr>
      </p:pic>
      <p:pic>
        <p:nvPicPr>
          <p:cNvPr id="975" name="Picture 1" descr=""/>
          <p:cNvPicPr/>
          <p:nvPr/>
        </p:nvPicPr>
        <p:blipFill>
          <a:blip r:embed="rId5"/>
          <a:stretch/>
        </p:blipFill>
        <p:spPr>
          <a:xfrm>
            <a:off x="7034040" y="2679840"/>
            <a:ext cx="216000" cy="191880"/>
          </a:xfrm>
          <a:prstGeom prst="rect">
            <a:avLst/>
          </a:prstGeom>
          <a:ln w="0">
            <a:noFill/>
          </a:ln>
        </p:spPr>
      </p:pic>
      <p:pic>
        <p:nvPicPr>
          <p:cNvPr id="976" name="Picture 1" descr=""/>
          <p:cNvPicPr/>
          <p:nvPr/>
        </p:nvPicPr>
        <p:blipFill>
          <a:blip r:embed="rId6"/>
          <a:stretch/>
        </p:blipFill>
        <p:spPr>
          <a:xfrm>
            <a:off x="7581960" y="2679840"/>
            <a:ext cx="216000" cy="191880"/>
          </a:xfrm>
          <a:prstGeom prst="rect">
            <a:avLst/>
          </a:prstGeom>
          <a:ln w="0">
            <a:noFill/>
          </a:ln>
        </p:spPr>
      </p:pic>
      <p:pic>
        <p:nvPicPr>
          <p:cNvPr id="977" name="Picture 1" descr=""/>
          <p:cNvPicPr/>
          <p:nvPr/>
        </p:nvPicPr>
        <p:blipFill>
          <a:blip r:embed="rId7"/>
          <a:stretch/>
        </p:blipFill>
        <p:spPr>
          <a:xfrm>
            <a:off x="3995640" y="314172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78" name="Picture 1" descr=""/>
          <p:cNvPicPr/>
          <p:nvPr/>
        </p:nvPicPr>
        <p:blipFill>
          <a:blip r:embed="rId8"/>
          <a:stretch/>
        </p:blipFill>
        <p:spPr>
          <a:xfrm>
            <a:off x="6516720" y="314172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79" name="Picture 1" descr=""/>
          <p:cNvPicPr/>
          <p:nvPr/>
        </p:nvPicPr>
        <p:blipFill>
          <a:blip r:embed="rId9"/>
          <a:stretch/>
        </p:blipFill>
        <p:spPr>
          <a:xfrm>
            <a:off x="4572000" y="364500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1" descr=""/>
          <p:cNvPicPr/>
          <p:nvPr/>
        </p:nvPicPr>
        <p:blipFill>
          <a:blip r:embed="rId10"/>
          <a:stretch/>
        </p:blipFill>
        <p:spPr>
          <a:xfrm>
            <a:off x="5724360" y="364500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81" name="Picture 1" descr=""/>
          <p:cNvPicPr/>
          <p:nvPr/>
        </p:nvPicPr>
        <p:blipFill>
          <a:blip r:embed="rId11"/>
          <a:stretch/>
        </p:blipFill>
        <p:spPr>
          <a:xfrm>
            <a:off x="1965240" y="4508640"/>
            <a:ext cx="216000" cy="191880"/>
          </a:xfrm>
          <a:prstGeom prst="rect">
            <a:avLst/>
          </a:prstGeom>
          <a:ln w="0">
            <a:noFill/>
          </a:ln>
        </p:spPr>
      </p:pic>
      <p:pic>
        <p:nvPicPr>
          <p:cNvPr id="982" name="Picture 1" descr=""/>
          <p:cNvPicPr/>
          <p:nvPr/>
        </p:nvPicPr>
        <p:blipFill>
          <a:blip r:embed="rId12"/>
          <a:stretch/>
        </p:blipFill>
        <p:spPr>
          <a:xfrm>
            <a:off x="3592440" y="4307040"/>
            <a:ext cx="216000" cy="191880"/>
          </a:xfrm>
          <a:prstGeom prst="rect">
            <a:avLst/>
          </a:prstGeom>
          <a:ln w="0">
            <a:noFill/>
          </a:ln>
        </p:spPr>
      </p:pic>
      <p:pic>
        <p:nvPicPr>
          <p:cNvPr id="983" name="Picture 1" descr=""/>
          <p:cNvPicPr/>
          <p:nvPr/>
        </p:nvPicPr>
        <p:blipFill>
          <a:blip r:embed="rId13"/>
          <a:stretch/>
        </p:blipFill>
        <p:spPr>
          <a:xfrm>
            <a:off x="4730760" y="4307040"/>
            <a:ext cx="216000" cy="19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5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5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5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5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5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3" dur="5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" dur="5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5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8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4" name="组合 8197"/>
          <p:cNvGrpSpPr/>
          <p:nvPr/>
        </p:nvGrpSpPr>
        <p:grpSpPr>
          <a:xfrm>
            <a:off x="600120" y="1547640"/>
            <a:ext cx="8078760" cy="3762720"/>
            <a:chOff x="600120" y="1547640"/>
            <a:chExt cx="8078760" cy="3762720"/>
          </a:xfrm>
        </p:grpSpPr>
        <p:pic>
          <p:nvPicPr>
            <p:cNvPr id="985" name="图片 8193" descr=""/>
            <p:cNvPicPr/>
            <p:nvPr/>
          </p:nvPicPr>
          <p:blipFill>
            <a:blip r:embed="rId1"/>
            <a:stretch/>
          </p:blipFill>
          <p:spPr>
            <a:xfrm>
              <a:off x="600120" y="1547640"/>
              <a:ext cx="7943760" cy="376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6" name="图片 8196" descr=""/>
            <p:cNvPicPr/>
            <p:nvPr/>
          </p:nvPicPr>
          <p:blipFill>
            <a:blip r:embed="rId2"/>
            <a:stretch/>
          </p:blipFill>
          <p:spPr>
            <a:xfrm>
              <a:off x="611280" y="2219400"/>
              <a:ext cx="8067600" cy="1342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87" name="Picture 1" descr=""/>
          <p:cNvPicPr/>
          <p:nvPr/>
        </p:nvPicPr>
        <p:blipFill>
          <a:blip r:embed="rId3"/>
          <a:stretch/>
        </p:blipFill>
        <p:spPr>
          <a:xfrm>
            <a:off x="4284720" y="3938760"/>
            <a:ext cx="287280" cy="255240"/>
          </a:xfrm>
          <a:prstGeom prst="rect">
            <a:avLst/>
          </a:prstGeom>
          <a:ln w="0">
            <a:noFill/>
          </a:ln>
        </p:spPr>
      </p:pic>
      <p:pic>
        <p:nvPicPr>
          <p:cNvPr id="988" name="Picture 1" descr=""/>
          <p:cNvPicPr/>
          <p:nvPr/>
        </p:nvPicPr>
        <p:blipFill>
          <a:blip r:embed="rId4"/>
          <a:stretch/>
        </p:blipFill>
        <p:spPr>
          <a:xfrm>
            <a:off x="5076720" y="3884760"/>
            <a:ext cx="647640" cy="318960"/>
          </a:xfrm>
          <a:prstGeom prst="rect">
            <a:avLst/>
          </a:prstGeom>
          <a:ln w="0">
            <a:noFill/>
          </a:ln>
        </p:spPr>
      </p:pic>
      <p:sp>
        <p:nvSpPr>
          <p:cNvPr id="989" name="圆角矩形 8198"/>
          <p:cNvSpPr/>
          <p:nvPr/>
        </p:nvSpPr>
        <p:spPr>
          <a:xfrm>
            <a:off x="1892160" y="2290680"/>
            <a:ext cx="6913800" cy="1224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0" name="图片 8199" descr=""/>
          <p:cNvPicPr/>
          <p:nvPr/>
        </p:nvPicPr>
        <p:blipFill>
          <a:blip r:embed="rId5"/>
          <a:stretch/>
        </p:blipFill>
        <p:spPr>
          <a:xfrm>
            <a:off x="1908000" y="2549520"/>
            <a:ext cx="857520" cy="8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5" dur="5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9T03:08:12Z</dcterms:modified>
  <cp:revision>2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